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073-0A70-440A-9668-E14EADB3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8B2-547C-4005-9134-C1137ACC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F40-D74F-4061-9865-1A813895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21B-9D60-4427-A163-3785EE92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196-4998-46A9-AEFA-69118511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11D-D09F-412D-98AB-7D750BBC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718-38C0-4A44-AEB5-2BA43A64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964-C0D3-4BAA-8972-4E755295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F10-69C4-4F7B-91B5-4D145B3E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40E-3DCF-47FE-AC08-6B36F77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1690-8C8A-4BB5-98D2-0A3EC90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F2C-E246-46D1-BAB4-15724ADE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5E7E-270D-4472-AD52-6B753A4FE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ord Am I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nferenc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barrass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lighte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tudent will be chosen as “the guesser.”  They will sit under the projector screen.  The teacher will flash one word on the scre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 the audience will try to describe a time when they felt this way.  They may NOT use the word on the scr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uesser will try to guess the word on 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more words if des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ppy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ustra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31:44Z</dcterms:created>
  <dc:creator>Clint</dc:creator>
  <dc:description/>
  <dc:language>en-US</dc:language>
  <cp:lastModifiedBy>Shirley Barclay</cp:lastModifiedBy>
  <dcterms:modified xsi:type="dcterms:W3CDTF">2013-03-21T21:33:31Z</dcterms:modified>
  <cp:revision>4</cp:revision>
  <dc:subject/>
  <dc:title>What Word Am I?</dc:title>
</cp:coreProperties>
</file>